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E8A-289E-4FCE-B721-940567E3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8AC-94D6-46D2-8B6F-D3DE574B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FB4-17E6-49FA-9223-CF01F354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835-AA8A-4678-A47F-792C056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FD0-D71C-44B1-A2B4-67DDB0A0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416A-68CB-4E6B-915A-32D4762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2363-89FC-4845-B1A9-90AFB047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DB2-6B0C-45B6-926D-4851A4E8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ABA-9FB9-485A-9FE1-96D9AEE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439-55A8-4617-8A02-C69CC776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1E14-16E9-42D5-92BD-35905BE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6B5-B70D-4E96-BE1C-410E7196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AE3B-8064-440E-AC10-35DFFF5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D588-15A2-4495-BED8-7B8895D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A837-8FB8-4D25-9DE0-D1917649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567-0E99-44A6-9D0E-499CF8A3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B091-1537-43AC-A0B6-35EC17A2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9F7-B79A-407B-AEC5-1C7E3CDF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4E9-8C22-48C6-85D8-DBD3D51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33B-EB5E-4998-9B5C-E0E88B7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89D-7891-4895-88B4-785331A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236-8976-4582-8D9F-786C45A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C41-7D54-4775-B321-436B8C9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242-9044-429C-99BB-9D50CCE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9C6-B62D-4187-B391-51716C2065E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633-4A4A-41EC-8AFF-36DD6F7A710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 &amp; Mei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eneral Biology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r. Cobb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at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Before the cell divides, the genetic material is copied.  The two identical pieces of DNA join together to form “sister chromatids.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se chromatids are joined at the centromer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429000" y="571680"/>
            <a:ext cx="4610160" cy="6286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 &amp; Chromat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netic Inform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 order for cells to reproduce, they must first go through the cell cycle, which lasts about 10-20 hour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the cell cycle, the DNA and organelles are copied, the cell increases in size, and then divid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cell cycle is composed of several step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o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lo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ytokine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terphase is made up of 3 phase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1 – growth and function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S-phase, the cell’s DNA is synthesized (copied). This phase lasts for 3 – 6 hour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G2 phase the cell prepares to divide (organelles and cytoplasm increase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hen the cell is actually dividing, it is called mitosis, followed by cytokinesi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uring mitosis, the nucleus and the duplicated DNA divide and are moved into two daughter cell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800600" y="2438280"/>
          <a:ext cx="4114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438280"/>
                    <a:ext cx="4114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cytokinesis, the cytoplasm of the cell divides into two part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t the end of cytokinesis, the two daughter cells completely separate, forming two identical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ccording to the cell theory, all cells come from pre-existing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But why do cells reproduce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uto0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LIP BOOK –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abel flaps like thi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CYCLE (title page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ITOSIS – Pro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elophase/Cytokinesi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cell cycle is divided into three part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ytokine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uring interphase, the cell is very active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Organelles and DNA are duplicate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495680" y="1371600"/>
            <a:ext cx="447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dividual chromosomes are not visible because they are loosely packed chromat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N is found only during 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547640"/>
            <a:ext cx="4343400" cy="42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itosis is divided into 4 phase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lo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uring prophase, 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romatin fibers condense and become chromos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ister chromatids join at the centrom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ister chromatIDs are IDen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724280" y="2057400"/>
            <a:ext cx="4572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ucleolus disappea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uclear membrane disappea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pindle fibers form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from spind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647720"/>
            <a:ext cx="43434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ll the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line up in the middle of the cell (called the “metaphase plate”)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769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Reproduc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s reproduce to replace lost or damaged cells with new healthy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New cells gradually replace dead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reproduction is responsible for your growth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pindle fibers attach to the chromosomes at the centromere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600200"/>
            <a:ext cx="40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indle fibers condense, causing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sister chromatids to separa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ach chromatid is now a “daughter chromosome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1371600"/>
            <a:ext cx="38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lophase begins when the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reach the poles of the spindl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ocesses that occurred during prophase are reversed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990720"/>
            <a:ext cx="320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10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he nuclear envelope and nucleolus reappear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he spindle disappear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uncoi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2201760"/>
            <a:ext cx="38098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uring cytokinesis,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cytoplasm separates into the two daughter cell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two daughter cells separate from each o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1752480"/>
            <a:ext cx="40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animal cells a “cleavage furrow” forms when the two cells begin to separa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plants, a cell plate forms and separates the two ce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029200" y="368280"/>
            <a:ext cx="3657600" cy="30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7004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result of the cell cycle is one cell becoming two identical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produc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sexual reproduction occurs when one organism makes an exact duplicate of itself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xual reproduction occurs when the genetic information from two organisms combine to make a new, genetically different, organism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netic Materia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enetic material (DNA or RNA) can exist in your cells in three form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enetic material is called chromatin when it is in a mass of very long fiber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2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s the cell prepares to divide, the genetic material condenses and winds around itself, forming chromosom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hromosomes are visible under powerful microscop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hromosomes are pictured in a karyotyp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Humans have 23 pairs of chromosomes.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se pairs are called homologous pairs of chromosom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plo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s that have homologous pairs of chromosomes are called diploid.  (2</a:t>
            </a:r>
            <a:r>
              <a:rPr b="0" i="1" lang="en-US" sz="40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ost organisms are diploid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05:35Z</dcterms:created>
  <dc:creator>Teacher</dc:creator>
  <dc:description/>
  <dc:language>en-US</dc:language>
  <cp:lastModifiedBy>jcobb</cp:lastModifiedBy>
  <dcterms:modified xsi:type="dcterms:W3CDTF">2011-12-10T00:07:21Z</dcterms:modified>
  <cp:revision>35</cp:revision>
  <dc:subject/>
  <dc:title>Types of Reproduction</dc:title>
</cp:coreProperties>
</file>